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DC70-FE2B-40CA-9963-ABF77793F0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10B-DC55-45B6-A724-2326F1FA63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5A94-5F8F-4F25-89ED-CA38717DFD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DCCF-56EA-46F6-80CC-8F152B6E8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EAEF-FBD1-43E5-B708-0FDAB60A20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546-00BC-46EE-B75B-C8998D0F95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3B2-DC4C-4E18-B5D5-F0D5409AE9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43C-C8E1-41D8-8442-ED936067D6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a camiseta, una chaqueta y unos pantal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os vaqueros, un jersey y una mochi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a falda vaquera, un jersey y unas bo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os vaqueros, una camiseta y unos zapat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levo unos pantalones, una camisa y unos zapat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E9B-D427-4EEF-A3B8-C37D3A9F04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hoto credi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David Bisbal, Bulería album ©ValeMusicSpainLtd / Jennifer López &amp; Ben Affleck ©ARRIVALS.oscarsacademy /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élope Cruz 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©Academy.HO-AMP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ad the following sentences and ask the pupils to say if each one is true or false. Answers appear on mousecl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David lleva unos vaqueros, una camisa y unos zapatos. Verdad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Jennifer lleva un vestido y unos zapatos y Ben lleva un traje, unos zapatos y una corbata. Verdad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Penélope lleva un patalón y una camiseta. Fal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CB29-6114-401B-AC70-5C1F4F55D9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93A8-D79D-4A03-91E9-427E570004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63E0-5EB7-4223-8BA2-5C0D9BA1DB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B8EF-2F02-435A-853D-ED486CB103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27DD-5907-4644-BD74-D3137F77C4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1B1A-C8EB-4351-BC45-40AD68ED3F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35A9-6B87-4AB7-B283-D8D644DFE5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F02-71CD-4A9A-8B1C-931987B2DA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E73-AA16-41D4-A638-5CCFA7CDF1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7A1-7A78-425E-8805-E63429E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AA4-3B26-4484-9AA4-07F5E847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AEC-194E-4334-ADFB-69B4EB53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1F1-02B2-4946-89E8-AD72DFEB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55C-52FC-4077-B382-EE74DB8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C3F-9503-4A29-934F-2626B1F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963-4793-4CBC-84D4-1B2BC7C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B08-1715-4F8A-A46D-0F636F2C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7B5-5365-4D93-9E5B-A1020AD7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88E-6D39-4B05-8418-92F463F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D8B-26A8-49E5-BB85-C054E60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9B4-0A1B-4E13-8279-385DCEC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A1F-3B35-44A5-A47A-91BAB86794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hegreenguy.typepad.com/thegreenguy/WindowsLiveWriter/MyquestforanethicalweddingsuitMissionImp_120CB/suit[3].jpg&amp;imgrefurl=http://thegreenguy.typepad.com/thegreenguy/2007/05/my_quest_for_an.html&amp;usg=__ZR48PcuIrl0h3S1VAM5UtJ0U6CE=&amp;h=480&amp;w=367&amp;sz=55&amp;hl=en&amp;start=1&amp;sig2=u2Ja3l_wZz0eAfhWtoSMnw&amp;um=1&amp;tbnid=dY_trjISXPP3wM:&amp;tbnh=129&amp;tbnw=99&amp;ei=fy6ZSbPXF4Hc0AXQmK3_CQ&amp;prev=/images?q=suit&amp;um=1&amp;hl=en&amp;rlz=1T4ACAW_enGB308GB308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0200" y="928800"/>
            <a:ext cx="4143600" cy="40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os pantalones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amis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amiset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fald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 vest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orbata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chaqueta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os zap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os calcetines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le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571840" y="928800"/>
            <a:ext cx="4143240" cy="40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 w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ki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tro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sh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s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hi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jum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t-shi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71720" y="471492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 go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z.about.com/d/accessories/1/0/E/1/-/-/pink-diva-cap.jpg"/>
          <p:cNvPicPr/>
          <p:nvPr/>
        </p:nvPicPr>
        <p:blipFill>
          <a:blip r:embed="rId1"/>
          <a:stretch/>
        </p:blipFill>
        <p:spPr>
          <a:xfrm>
            <a:off x="1071720" y="0"/>
            <a:ext cx="5857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71720" y="471492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os pantalones cor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www.stpaulrealestateblog.com/st_paul_real_estate/images/2007/08/15/shorts.jpg"/>
          <p:cNvPicPr/>
          <p:nvPr/>
        </p:nvPicPr>
        <p:blipFill>
          <a:blip r:embed="rId1"/>
          <a:stretch/>
        </p:blipFill>
        <p:spPr>
          <a:xfrm>
            <a:off x="2357280" y="642960"/>
            <a:ext cx="3929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71720" y="471492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os guan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ww.nexternal.com/armynavy/images/Foliage-mechanics-glove1.gif"/>
          <p:cNvPicPr/>
          <p:nvPr/>
        </p:nvPicPr>
        <p:blipFill>
          <a:blip r:embed="rId1"/>
          <a:stretch/>
        </p:blipFill>
        <p:spPr>
          <a:xfrm>
            <a:off x="2714760" y="571680"/>
            <a:ext cx="3500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nexternal.com/armynavy/images/Foliage-mechanics-glove1.gif"/>
          <p:cNvPicPr/>
          <p:nvPr/>
        </p:nvPicPr>
        <p:blipFill>
          <a:blip r:embed="rId1"/>
          <a:stretch/>
        </p:blipFill>
        <p:spPr>
          <a:xfrm>
            <a:off x="7000920" y="2786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stpaulrealestateblog.com/st_paul_real_estate/images/2007/08/15/shorts.jpg"/>
          <p:cNvPicPr/>
          <p:nvPr/>
        </p:nvPicPr>
        <p:blipFill>
          <a:blip r:embed="rId2"/>
          <a:stretch/>
        </p:blipFill>
        <p:spPr>
          <a:xfrm>
            <a:off x="4643280" y="2714760"/>
            <a:ext cx="214344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z.about.com/d/accessories/1/0/E/1/-/-/pink-diva-cap.jpg"/>
          <p:cNvPicPr/>
          <p:nvPr/>
        </p:nvPicPr>
        <p:blipFill>
          <a:blip r:embed="rId3"/>
          <a:stretch/>
        </p:blipFill>
        <p:spPr>
          <a:xfrm>
            <a:off x="2143080" y="2786040"/>
            <a:ext cx="2332080" cy="17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appserver.guernseyop.com/cart/images/scarf%20smlogo.jpg"/>
          <p:cNvPicPr/>
          <p:nvPr/>
        </p:nvPicPr>
        <p:blipFill>
          <a:blip r:embed="rId4"/>
          <a:stretch/>
        </p:blipFill>
        <p:spPr>
          <a:xfrm>
            <a:off x="571680" y="2786040"/>
            <a:ext cx="152064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box-clothing.co.uk/mens-1/footwear-3/trainers-26/lacoste-punched-leather-trainers-75490-5194_medium.jpg"/>
          <p:cNvPicPr/>
          <p:nvPr/>
        </p:nvPicPr>
        <p:blipFill>
          <a:blip r:embed="rId5"/>
          <a:stretch/>
        </p:blipFill>
        <p:spPr>
          <a:xfrm>
            <a:off x="7000920" y="5000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z.about.com/d/shoes/1/0/0/W/faux_fur_boots.jpg"/>
          <p:cNvPicPr/>
          <p:nvPr/>
        </p:nvPicPr>
        <p:blipFill>
          <a:blip r:embed="rId6"/>
          <a:stretch/>
        </p:blipFill>
        <p:spPr>
          <a:xfrm>
            <a:off x="4714920" y="642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germes-online.com/direct/dbimage/50196568/Jeans.jpg"/>
          <p:cNvPicPr/>
          <p:nvPr/>
        </p:nvPicPr>
        <p:blipFill>
          <a:blip r:embed="rId7"/>
          <a:stretch/>
        </p:blipFill>
        <p:spPr>
          <a:xfrm>
            <a:off x="2571840" y="5000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tbn1.google.com/images?q=tbn:dY_trjISXPP3wM:http://thegreenguy.typepad.com/thegreenguy/WindowsLiveWriter/MyquestforanethicalweddingsuitMissionImp_120CB/suit%255B3%255D.jpg"/>
          <p:cNvPicPr/>
          <p:nvPr/>
        </p:nvPicPr>
        <p:blipFill>
          <a:blip r:embed="rId8"/>
          <a:stretch/>
        </p:blipFill>
        <p:spPr>
          <a:xfrm>
            <a:off x="500040" y="428760"/>
            <a:ext cx="166860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modculture.typepad.com/photos/uncategorized/ps_military.jpg"/>
          <p:cNvPicPr/>
          <p:nvPr/>
        </p:nvPicPr>
        <p:blipFill>
          <a:blip r:embed="rId9"/>
          <a:stretch/>
        </p:blipFill>
        <p:spPr>
          <a:xfrm>
            <a:off x="2571840" y="4697280"/>
            <a:ext cx="171432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ntunez.es/images/imagesecom/redingtonhunter.jpg"/>
          <p:cNvPicPr/>
          <p:nvPr/>
        </p:nvPicPr>
        <p:blipFill>
          <a:blip r:embed="rId10"/>
          <a:stretch/>
        </p:blipFill>
        <p:spPr>
          <a:xfrm>
            <a:off x="4786200" y="4714920"/>
            <a:ext cx="16621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71680" y="0"/>
            <a:ext cx="800100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ás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(More clot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ra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abri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ver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chubasque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ain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s gua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s pantalones cort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s vaque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j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gor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bufan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c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s bot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s zapatillas de depor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use a dictionary to add further items of clothing to you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: it will have n before any item of clothing = NOUN + m / f if it does not end with o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ShockwaveFlash1"/>
          <p:cNvGraphicFramePr/>
          <p:nvPr/>
        </p:nvGraphicFramePr>
        <p:xfrm>
          <a:off x="108000" y="885960"/>
          <a:ext cx="888372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85960"/>
                    <a:ext cx="8883720" cy="52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©75_ARRIVALS_1156"/>
          <p:cNvPicPr/>
          <p:nvPr/>
        </p:nvPicPr>
        <p:blipFill>
          <a:blip r:embed="rId1"/>
          <a:stretch/>
        </p:blipFill>
        <p:spPr>
          <a:xfrm>
            <a:off x="3409920" y="1819440"/>
            <a:ext cx="2560680" cy="39290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Text Box 7"/>
          <p:cNvSpPr/>
          <p:nvPr/>
        </p:nvSpPr>
        <p:spPr>
          <a:xfrm>
            <a:off x="82440" y="84600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¿Verdadero o fal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PhotoBuleríacopy"/>
          <p:cNvPicPr/>
          <p:nvPr/>
        </p:nvPicPr>
        <p:blipFill>
          <a:blip r:embed="rId2"/>
          <a:stretch/>
        </p:blipFill>
        <p:spPr>
          <a:xfrm>
            <a:off x="351000" y="1555920"/>
            <a:ext cx="2268360" cy="33811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" name="Text Box 10"/>
          <p:cNvSpPr/>
          <p:nvPr/>
        </p:nvSpPr>
        <p:spPr>
          <a:xfrm>
            <a:off x="117360" y="4603680"/>
            <a:ext cx="11019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 flipV="1">
            <a:off x="671400" y="4279680"/>
            <a:ext cx="219240" cy="32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395360" y="3784680"/>
            <a:ext cx="1752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Verda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067200" y="5500800"/>
            <a:ext cx="15620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Jenn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238720" y="5005440"/>
            <a:ext cx="819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3662280" y="5176800"/>
            <a:ext cx="219240" cy="324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 flipV="1">
            <a:off x="5362560" y="4725720"/>
            <a:ext cx="209520" cy="285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8" descr="©77Academy_A2034"/>
          <p:cNvPicPr/>
          <p:nvPr/>
        </p:nvPicPr>
        <p:blipFill>
          <a:blip r:embed="rId3"/>
          <a:stretch/>
        </p:blipFill>
        <p:spPr>
          <a:xfrm>
            <a:off x="6423120" y="865080"/>
            <a:ext cx="2268360" cy="341496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6" name="Text Box 19"/>
          <p:cNvSpPr/>
          <p:nvPr/>
        </p:nvSpPr>
        <p:spPr>
          <a:xfrm>
            <a:off x="6743880" y="4108320"/>
            <a:ext cx="1711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alibri"/>
              </a:rPr>
              <a:t>Pené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V="1">
            <a:off x="7515360" y="3784320"/>
            <a:ext cx="0" cy="32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7610400" y="2914560"/>
            <a:ext cx="1324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F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4362480" y="3860640"/>
            <a:ext cx="1752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Verda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293760" y="1324080"/>
            <a:ext cx="377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330720" y="1571760"/>
            <a:ext cx="377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6365880" y="662040"/>
            <a:ext cx="3780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ShockwaveFlash1"/>
          <p:cNvGraphicFramePr/>
          <p:nvPr/>
        </p:nvGraphicFramePr>
        <p:xfrm>
          <a:off x="174600" y="819000"/>
          <a:ext cx="88930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819000"/>
                    <a:ext cx="8893080" cy="529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clo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0 item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isten to a series of people describing what they are w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 tra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tbn1.google.com/images?q=tbn:dY_trjISXPP3wM:http://thegreenguy.typepad.com/thegreenguy/WindowsLiveWriter/MyquestforanethicalweddingsuitMissionImp_120CB/suit%255B3%255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642960"/>
            <a:ext cx="3143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 abr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odculture.typepad.com/photos/uncategorized/ps_military.jpg"/>
          <p:cNvPicPr/>
          <p:nvPr/>
        </p:nvPicPr>
        <p:blipFill>
          <a:blip r:embed="rId1"/>
          <a:stretch/>
        </p:blipFill>
        <p:spPr>
          <a:xfrm>
            <a:off x="2857680" y="500040"/>
            <a:ext cx="3429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 chubasqu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antunez.es/images/imagesecom/redingtonhunter.jpg"/>
          <p:cNvPicPr/>
          <p:nvPr/>
        </p:nvPicPr>
        <p:blipFill>
          <a:blip r:embed="rId1"/>
          <a:stretch/>
        </p:blipFill>
        <p:spPr>
          <a:xfrm>
            <a:off x="2571840" y="0"/>
            <a:ext cx="4419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os vaque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germes-online.com/direct/dbimage/50196568/Jeans.jpg"/>
          <p:cNvPicPr/>
          <p:nvPr/>
        </p:nvPicPr>
        <p:blipFill>
          <a:blip r:embed="rId1"/>
          <a:stretch/>
        </p:blipFill>
        <p:spPr>
          <a:xfrm>
            <a:off x="2143080" y="571680"/>
            <a:ext cx="4143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071720" y="507204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s bo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z.about.com/d/shoes/1/0/0/W/faux_fur_boots.jpg"/>
          <p:cNvPicPr/>
          <p:nvPr/>
        </p:nvPicPr>
        <p:blipFill>
          <a:blip r:embed="rId1"/>
          <a:stretch/>
        </p:blipFill>
        <p:spPr>
          <a:xfrm>
            <a:off x="2714760" y="1214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71720" y="471492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s zapatillas de depor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www.box-clothing.co.uk/mens-1/footwear-3/trainers-26/lacoste-punched-leather-trainers-75490-5194_medium.jpg"/>
          <p:cNvPicPr/>
          <p:nvPr/>
        </p:nvPicPr>
        <p:blipFill>
          <a:blip r:embed="rId1"/>
          <a:stretch/>
        </p:blipFill>
        <p:spPr>
          <a:xfrm>
            <a:off x="2714760" y="1071720"/>
            <a:ext cx="32954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71720" y="4714920"/>
            <a:ext cx="71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na bufa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appserver.guernseyop.com/cart/images/scarf%20smlogo.jpg"/>
          <p:cNvPicPr/>
          <p:nvPr/>
        </p:nvPicPr>
        <p:blipFill>
          <a:blip r:embed="rId1"/>
          <a:stretch/>
        </p:blipFill>
        <p:spPr>
          <a:xfrm>
            <a:off x="2571840" y="0"/>
            <a:ext cx="4286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9:06:09Z</dcterms:created>
  <dc:creator>Chris</dc:creator>
  <dc:description/>
  <dc:language>en-US</dc:language>
  <cp:lastModifiedBy>Chris</cp:lastModifiedBy>
  <dcterms:modified xsi:type="dcterms:W3CDTF">2009-06-11T07:25:29Z</dcterms:modified>
  <cp:revision>4</cp:revision>
  <dc:subject/>
  <dc:title>Slide 1</dc:title>
</cp:coreProperties>
</file>